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D27-822A-4440-AAF1-94B01FF6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B7B-3CB7-48CF-A3A5-95D4E341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BA4-9323-4080-ABC3-ECBF1D8E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AB1-FE94-439E-A0A9-99BE430D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C165-C48A-4291-87F0-23F44DA8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73E8-7799-4A07-9FB8-C4427127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BD30-A16C-4A68-9217-4DD83646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CD67-488A-4128-BA2F-96BF7F7B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A038-459C-4046-B55D-3490D530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CC30-5BEB-4BF1-9986-7386BE5E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5FBD-071D-4686-BFAB-58455E3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031-497E-42CC-9834-75861A02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EE12-6393-4B6E-9629-31384A10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27F3-6450-4126-BA5D-6942757E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530B-E683-4C56-8AD1-D6AE0CB7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2362-7225-42B8-BE55-6A253238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D57A-3FB1-4119-B142-F6FBB38C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842-5F76-4161-94C7-CB275FAF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A0A-691A-4184-BA30-CDF288EF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537-B351-427C-8AE3-4810C075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280-0365-4BFF-BF83-3E214E45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55F-2E0B-405C-AE61-14A9614F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157-165D-4EFE-95CA-7C9048D9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F59-CC25-4259-9A16-51D9E5B1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0FA9-146E-43FC-8C67-16F18D3D1F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3856-C5F0-4AA9-AF07-DD81D3B680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Moses’ Speeches On The Plains of Moab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y of Deuter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uteronom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Law:  Going Over The Law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Before Entering Into The Promised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Before The Leadership Is Handed Over To Josh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ive Books of Mo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sis = Begin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odus = Leaving Egyptian Bond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iticus = Rites of Priest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s = Numbering Israel &amp; A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uteronomy 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iving or Rehearsal of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uteronomy Speech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Be Afraid; Remain Faithful – 1:1 – 4:40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hat God Has Done For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 Lest You Forget To Obey The Lord – 4:44 – 26:19 –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hat God Expects of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"What God Will Do for Israel" (27:1--34: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God Made Them Wander 40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riginal Agreement/ 10 Command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Commandment – Ch.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’s Basics – ch.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rses of Disobed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er Prophet to Come – ch.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h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th of Mo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mmary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tt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riar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f M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ag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Egypt to Sin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Makes A Coven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Sinai To Kad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d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he Plains of Mo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urney’s 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0:53:06Z</dcterms:created>
  <dc:creator>Terry W. Benton</dc:creator>
  <dc:description/>
  <dc:language>en-US</dc:language>
  <cp:lastModifiedBy>Terry W. Benton</cp:lastModifiedBy>
  <dcterms:modified xsi:type="dcterms:W3CDTF">2004-12-22T01:01:50Z</dcterms:modified>
  <cp:revision>1</cp:revision>
  <dc:subject/>
  <dc:title>Moses’ Speeches On The Plains of Moab</dc:title>
</cp:coreProperties>
</file>